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B18-7E7A-4103-9FF8-F765B77E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32B-E6B7-45D7-822B-EEC17532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048-230C-4F69-8CA6-D0F5CCD6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F6B-96C1-42E9-8CD9-E43DB098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6A8-3050-40B2-8B23-8705EC40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473D-2B89-4831-8AE9-79D70D3C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BB2-7219-4333-B67C-2D236DA9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84D7-1D76-4D6E-8331-5E99BA1D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D712-C406-46FC-B18D-005B7E07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5C3-F9FA-4F2B-944C-E629063A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78B-6E38-4F40-B8DB-9D678074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1DA-76D3-4EA8-93E7-8099047B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7C8B-7E55-47EC-9E1B-34AF8A5B9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s-Putnami meetod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el C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hikklausel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ta sisaldab täpselt üht literaa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al p (vastavalt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) on klauslite hulgas 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ha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(vastavalt p) ei es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heski hulga S klausl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el C on klauslite hulgas 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ha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ta sisaldab literaali, mis on hulgas S puh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el C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utoloog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mingi aatom p esineb seal nii positiivselt kui 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ivse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S mittetautoloogiliste klauslite hul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[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/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] tähistab klauslite hulka, mis saadakse hulgast S iga klausli 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eemaldamisel ning iga klausl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asendamisel klausliga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[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 tähistab klauslite hulka, mis saadakse hulgast S iga klausl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eemaldamisel ning iga klausli 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asendamisel klausliga C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s-Putnami algorit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antud klauslite hulk S klausl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Eemalda hulgast S kõik tautoloogilised klausl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Kui S on tühi, vasta “kehtestatav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Kui S sisaldab tühja klauslit, vasta “vastuolulin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Kui S sisaldab puhast klauslit, eemalda see hulgast S ja pöördu tagasi sammu 2 juur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Kui S sisaldab ühikklauslit p (vastavalt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), siis asenda S hulgaga S[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 (vastav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lgaga S[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) ja pöördu tagasi sammu 2 juur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Muidu vali mingi hulgas S esinev lausesümbol p. Rakenda protseduuri rekursiivsel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lkadele S[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 ja S[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. Vasta “vastuoluline”, kui mõlemad rekursiivse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äljakutsed tagastavad “vastuoluline”, vastasel korral “kehtestatav”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na algoritm ise on väga lihtne, siis keskendub kiiremate algoritmide otsimine sellele, kuidas valida paremini hargnemissümbol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htne heuristik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 lausesümbol p, mis maksimeerib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_ , kus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lite arv, kus p esineb positiivselt, ja n_ on klauslite arv, kus n esineb negatiivse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da esmalt S[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, kui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_ , ning esmalt S[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, kui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n_ 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3:35:45Z</dcterms:created>
  <dc:creator>Tiina Zingel</dc:creator>
  <dc:description/>
  <dc:language>en-US</dc:language>
  <cp:lastModifiedBy>Tiina Zingel</cp:lastModifiedBy>
  <dcterms:modified xsi:type="dcterms:W3CDTF">2006-03-01T13:39:56Z</dcterms:modified>
  <cp:revision>1</cp:revision>
  <dc:subject/>
  <dc:title>Davis-Putnami meetod. </dc:title>
</cp:coreProperties>
</file>